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506-F8B4-4279-9F6C-9F2439E7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520-E829-421E-A341-2585B27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72C-985D-42B0-9D0B-CDDD4C46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6BC-7BB7-4E26-A570-9F755059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365-3CA3-4B8F-9325-39D639F8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1B7-3AA9-4931-A5AB-AF20005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FB8-8C8E-4FB6-A34D-D836BB2B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573-42C9-40CB-AE4E-B8A5E4C4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26E-DD07-4569-B0A7-141B3942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BA1-8000-462F-AF10-EC27AAB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8C4-ED89-486D-B16E-0B44F48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939-D050-4F36-B66B-BDE149F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5B4-EDC8-4C2D-B645-E689F738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underlandschools.org/mfl-sunderland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oorbell.wav" TargetMode="External"/><Relationship Id="rId2" Type="http://schemas.microsoft.com/office/2007/relationships/media" Target="file:///tmp/home/.config/libreoffice/4/user/gallery/doorbell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car%20horn%201.wav" TargetMode="External"/><Relationship Id="rId5" Type="http://schemas.microsoft.com/office/2007/relationships/media" Target="file:///tmp/home/.config/libreoffice/4/user/gallery/car%20horn%201.wav" TargetMode="External"/><Relationship Id="rId6" Type="http://schemas.openxmlformats.org/officeDocument/2006/relationships/image" Target="../media/image2.png"/><Relationship Id="rId7" Type="http://schemas.openxmlformats.org/officeDocument/2006/relationships/audio" Target="file:///tmp/home/.config/libreoffice/4/user/gallery/flushtoilet.wav" TargetMode="External"/><Relationship Id="rId8" Type="http://schemas.microsoft.com/office/2007/relationships/media" Target="file:///tmp/home/.config/libreoffice/4/user/gallery/flushtoilet.wav" TargetMode="External"/><Relationship Id="rId9" Type="http://schemas.openxmlformats.org/officeDocument/2006/relationships/image" Target="../media/image2.png"/><Relationship Id="rId10" Type="http://schemas.openxmlformats.org/officeDocument/2006/relationships/audio" Target="file:///tmp/home/.config/libreoffice/4/user/gallery/snore.wav" TargetMode="External"/><Relationship Id="rId11" Type="http://schemas.microsoft.com/office/2007/relationships/media" Target="file:///tmp/home/.config/libreoffice/4/user/gallery/snore.wav" TargetMode="External"/><Relationship Id="rId12" Type="http://schemas.openxmlformats.org/officeDocument/2006/relationships/image" Target="../media/image2.png"/><Relationship Id="rId13" Type="http://schemas.openxmlformats.org/officeDocument/2006/relationships/audio" Target="file:///tmp/home/.config/libreoffice/4/user/gallery/BIRD1.wav" TargetMode="External"/><Relationship Id="rId14" Type="http://schemas.microsoft.com/office/2007/relationships/media" Target="file:///tmp/home/.config/libreoffice/4/user/gallery/BIRD1.wav" TargetMode="External"/><Relationship Id="rId15" Type="http://schemas.openxmlformats.org/officeDocument/2006/relationships/image" Target="../media/image2.png"/><Relationship Id="rId16" Type="http://schemas.openxmlformats.org/officeDocument/2006/relationships/audio" Target="file:///tmp/home/.config/libreoffice/4/user/gallery/cruch%20and%20chew.wav" TargetMode="External"/><Relationship Id="rId17" Type="http://schemas.microsoft.com/office/2007/relationships/media" Target="file:///tmp/home/.config/libreoffice/4/user/gallery/cruch%20and%20chew.wav" TargetMode="External"/><Relationship Id="rId18" Type="http://schemas.openxmlformats.org/officeDocument/2006/relationships/image" Target="../media/image2.png"/><Relationship Id="rId19" Type="http://schemas.openxmlformats.org/officeDocument/2006/relationships/audio" Target="file:///tmp/home/.config/libreoffice/4/user/gallery/water%20splash.wav" TargetMode="External"/><Relationship Id="rId20" Type="http://schemas.microsoft.com/office/2007/relationships/media" Target="file:///tmp/home/.config/libreoffice/4/user/gallery/water%20splash.wav" TargetMode="External"/><Relationship Id="rId21" Type="http://schemas.openxmlformats.org/officeDocument/2006/relationships/image" Target="../media/image2.png"/><Relationship Id="rId22" Type="http://schemas.openxmlformats.org/officeDocument/2006/relationships/audio" Target="file:///tmp/home/.config/libreoffice/4/user/gallery/music%20box.wav" TargetMode="External"/><Relationship Id="rId23" Type="http://schemas.microsoft.com/office/2007/relationships/media" Target="file:///tmp/home/.config/libreoffice/4/user/gallery/music%20box.wav" TargetMode="External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844640"/>
            <a:ext cx="8064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hez moi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6453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</a:rPr>
              <a:t>©MFL Sunderland 2007 CS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http://www.sunderlandschools.org/mfl-sunder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0800000">
            <a:off x="539280" y="40428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0800000">
            <a:off x="2339640" y="-360"/>
            <a:ext cx="1800360" cy="3529080"/>
          </a:xfrm>
          <a:prstGeom prst="upArrowCallout">
            <a:avLst>
              <a:gd name="adj1" fmla="val 25002"/>
              <a:gd name="adj2" fmla="val 25000"/>
              <a:gd name="adj3" fmla="val 32670"/>
              <a:gd name="adj4" fmla="val 163299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0800000">
            <a:off x="3059280" y="40464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6168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3492000" y="333360"/>
            <a:ext cx="1800360" cy="2448000"/>
          </a:xfrm>
          <a:prstGeom prst="upArrowCallout">
            <a:avLst>
              <a:gd name="adj1" fmla="val 25002"/>
              <a:gd name="adj2" fmla="val 25000"/>
              <a:gd name="adj3" fmla="val 22662"/>
              <a:gd name="adj4" fmla="val 12762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0800000">
            <a:off x="4427640" y="333360"/>
            <a:ext cx="1800000" cy="2448000"/>
          </a:xfrm>
          <a:prstGeom prst="upArrowCallout">
            <a:avLst>
              <a:gd name="adj1" fmla="val 25002"/>
              <a:gd name="adj2" fmla="val 25000"/>
              <a:gd name="adj3" fmla="val 22667"/>
              <a:gd name="adj4" fmla="val 15020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rot="10800000">
            <a:off x="5435640" y="0"/>
            <a:ext cx="2232000" cy="2852640"/>
          </a:xfrm>
          <a:prstGeom prst="upArrowCallout">
            <a:avLst>
              <a:gd name="adj1" fmla="val 25002"/>
              <a:gd name="adj2" fmla="val 19134"/>
              <a:gd name="adj3" fmla="val 21301"/>
              <a:gd name="adj4" fmla="val 15604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0800000">
            <a:off x="6407280" y="619920"/>
            <a:ext cx="2736720" cy="2087640"/>
          </a:xfrm>
          <a:prstGeom prst="upArrowCallout">
            <a:avLst>
              <a:gd name="adj1" fmla="val 29814"/>
              <a:gd name="adj2" fmla="val 24185"/>
              <a:gd name="adj3" fmla="val 16574"/>
              <a:gd name="adj4" fmla="val 11646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hambr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10800000">
            <a:off x="3924360" y="549360"/>
            <a:ext cx="1800000" cy="1511280"/>
          </a:xfrm>
          <a:prstGeom prst="upArrowCallout">
            <a:avLst>
              <a:gd name="adj1" fmla="val 27738"/>
              <a:gd name="adj2" fmla="val 29776"/>
              <a:gd name="adj3" fmla="val 30588"/>
              <a:gd name="adj4" fmla="val 118272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5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6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7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8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56000" y="189000"/>
            <a:ext cx="6588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ren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0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862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31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6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16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33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6103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1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35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5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798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63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189000"/>
          <a:ext cx="1450800" cy="6480000"/>
        </p:xfrm>
        <a:graphic>
          <a:graphicData uri="http://schemas.openxmlformats.org/drawingml/2006/table">
            <a:tbl>
              <a:tblPr/>
              <a:tblGrid>
                <a:gridCol w="730080"/>
                <a:gridCol w="7207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332000" y="19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33200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332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33200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33200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332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1332000" y="616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133200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79640" y="189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ga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23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W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924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3429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hambre de mes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9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e jar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45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5013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b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589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6093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ma cha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692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a salle 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1268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070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86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31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63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6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233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10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8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35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25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98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413000">
            <a:off x="7632360" y="407628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11659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1080" y="260280"/>
            <a:ext cx="1942920" cy="3384720"/>
          </a:xfrm>
          <a:prstGeom prst="downArrowCallout">
            <a:avLst>
              <a:gd name="adj1" fmla="val 25002"/>
              <a:gd name="adj2" fmla="val 25000"/>
              <a:gd name="adj3" fmla="val 29035"/>
              <a:gd name="adj4" fmla="val 18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’esca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020000" y="4869000"/>
            <a:ext cx="1511280" cy="1511280"/>
          </a:xfrm>
          <a:prstGeom prst="upArrowCallout">
            <a:avLst>
              <a:gd name="adj1" fmla="val 34670"/>
              <a:gd name="adj2" fmla="val 25944"/>
              <a:gd name="adj3" fmla="val 20588"/>
              <a:gd name="adj4" fmla="val 76255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 j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16720" y="4005360"/>
            <a:ext cx="1728720" cy="2016000"/>
          </a:xfrm>
          <a:prstGeom prst="upArrowCallout">
            <a:avLst>
              <a:gd name="adj1" fmla="val 28197"/>
              <a:gd name="adj2" fmla="val 26310"/>
              <a:gd name="adj3" fmla="val 30618"/>
              <a:gd name="adj4" fmla="val 136544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ui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92720" y="4005360"/>
            <a:ext cx="1655640" cy="2852640"/>
          </a:xfrm>
          <a:prstGeom prst="upArrowCallout">
            <a:avLst>
              <a:gd name="adj1" fmla="val 27688"/>
              <a:gd name="adj2" fmla="val 25750"/>
              <a:gd name="adj3" fmla="val 46385"/>
              <a:gd name="adj4" fmla="val 141156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sall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à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08360" y="3933720"/>
            <a:ext cx="1728720" cy="2563920"/>
          </a:xfrm>
          <a:prstGeom prst="upArrowCallout">
            <a:avLst>
              <a:gd name="adj1" fmla="val 28197"/>
              <a:gd name="adj2" fmla="val 26310"/>
              <a:gd name="adj3" fmla="val 38939"/>
              <a:gd name="adj4" fmla="val 149481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 s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252000" cy="4281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2000" y="4292640"/>
            <a:ext cx="2592360" cy="718920"/>
          </a:xfrm>
          <a:prstGeom prst="rightArrowCallout">
            <a:avLst>
              <a:gd name="adj1" fmla="val 58061"/>
              <a:gd name="adj2" fmla="val 50000"/>
              <a:gd name="adj3" fmla="val 72652"/>
              <a:gd name="adj4" fmla="val 66667"/>
            </a:avLst>
          </a:prstGeom>
          <a:solidFill>
            <a:srgbClr val="f0f43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a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2:45:07Z</dcterms:created>
  <dc:creator>CSeccombe</dc:creator>
  <dc:description/>
  <dc:language>en-US</dc:language>
  <cp:lastModifiedBy>Ministry of Education</cp:lastModifiedBy>
  <dcterms:modified xsi:type="dcterms:W3CDTF">2009-04-30T03:32:07Z</dcterms:modified>
  <cp:revision>24</cp:revision>
  <dc:subject/>
  <dc:title>Slide 1</dc:title>
</cp:coreProperties>
</file>